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E2F-07B4-49D1-9DE8-E9745D96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495-AB22-44E3-97A4-DED3ECDA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651-8C22-4128-87EE-9482BE52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AD2-2217-41F0-A17C-0EB1EF94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E0F7-52DF-49D5-819E-9EC6D408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77CE-D481-43E0-85E0-9554703D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490A-32A6-4996-86D8-3A91040C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0667-FE29-4444-B925-C028B8B0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DB6A-4918-46DF-B03C-C41DE808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926D-9C36-480D-AAB1-AF57F249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C6EE-BF61-4399-AB67-0B37B9F6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129-FCB3-405D-B806-1D3B4A4A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2A58-8D5D-40FD-B0B3-3F8DFDA5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ECD4-61F3-43F8-8978-DCCBF637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1A75-68AE-495D-9AB6-3E634BCF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FD2D-BB44-4D61-BF50-389546C0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09B3-8BDA-4FB7-A1CB-D281E69B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2C3-3CF1-480B-9829-256F95B8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466-01E4-4602-B64A-4EB1FD9A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0CE-D999-4715-B2FE-6AD4EA71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D42-E576-4AC8-952F-06E0581B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A7A-9906-43A8-ABF8-086AE66B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3FF-9DD3-4394-85B0-29D10B62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031-E923-4C57-A1C3-F6839E2C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1D7D-F89E-4B20-86F7-C0EED77FFA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2721-0F2D-4258-9DF6-7A0312A0C6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ОЦЕС КОМУНИКАЦИЈE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снове комуниц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оје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тип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муникаци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ерб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муникација;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еверб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муника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сновни обл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рбалне комуник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ј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азгов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говор обухват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комуникацијске вешт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лушање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Говорење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штина комуникације подразуме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рзи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економино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рганизовано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лективно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тварање повер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авети за вербалну комуникац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ворити јасно, тако се може све разум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ти језик који је адекватан теми и примерен саговорниц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ти речи примерене ситуац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ба бити љубазан и прихватити формалност коју налаже ситуа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ти питања која ће служити за проверу да ли су други разумели оно што се при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лушати пажљиво саговорника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нхибитори комуник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азумљиво пренета порука – терминолошке несуглас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више информација (преоптерећенос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ак информа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азумевање или погрешно разумев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ољашњи фактори: бука, просторија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коцентрисаност саговор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ћуткивање, заташкавање и дезинформац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Говор у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нологу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захте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асан, концизан и живописан ток излагањ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ицање теме тј. фокуса го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абир висине интон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есан темпо излаг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менат импрови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ент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новне компонент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ијалог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и концепт – излагање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менат слуш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мена миш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а метода и техника преговар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а саговор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а тока конвер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ћност закључ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чини остваривања доброг односа саговорн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ушање саговор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а технике унакрсних 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норисање личног момента и занемаривање претераног емоционалног реаго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а мирног и сигурног т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ан однос у циљу стварања повер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а покр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изање договора и компром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иса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арактеристике доброг пис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асноћ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ређеност и језгровито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ергично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лико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рховито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вање пое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9T05:08:48Z</dcterms:modified>
  <cp:revision>181</cp:revision>
  <dc:subject/>
  <dc:title>Soft and Hard Skills Development: A Current Situation in Serbian Companies</dc:title>
</cp:coreProperties>
</file>